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3458-8D31-45DE-9D19-B83D18BED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DD4-6977-4CD8-909F-08D1043AFF3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A9A-1D02-49F8-AF49-BA7DD8898B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diction is some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2241-1734-40D1-8B75-284977297FD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C7E1-499C-4D49-AFA2-1CA7732FC4F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4D2-6DB6-4831-AEC4-985A13CBB47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681A-6B26-4E05-A154-DA577125D1D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research about talk about strategies vs. talk about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C186-9C61-4017-B134-EA6EF0A7B8A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F49-45C2-4727-8140-73BA7B43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791-0D40-462C-A0C2-DB30C5E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85F-5981-4466-B42C-0C9075EB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E76-DB3B-4676-BD7D-388BBB3D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1255-A132-4ECF-AD29-4AC53F86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B7A2-DA48-4494-B92A-BC805814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8E1-87D0-40E3-ACE7-2287881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53E-A780-446E-A0BA-A51854D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A50-741D-4744-AAF6-6924614B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7C3A-4890-45BB-A7DF-0ABFB0C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C756-BA6D-462A-9568-2D897F89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AFB-0CF7-446B-8805-2184C84B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8FF6-E35F-4758-8B81-9D015E5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506-7D6A-472A-817A-D7FAD1F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F5D-1957-4441-8FF9-3E7602B5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5D5E-045A-465B-9113-F864EDBB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614E-CFF7-4B14-8C4D-1EAD6891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9F2-6A3D-4EC7-A125-527CBFC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355-5A2D-4952-997A-18DF869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249-1764-4C1F-B5D1-2E1C282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2E5-5476-4FE0-9A69-3D8F71B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822-CA8A-47E3-B74B-0E129B62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421-7214-4A2F-B12F-B99BDC7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1E24-2910-45B1-8EDC-8098F303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26F9-99FF-40F7-A3E8-87645726C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6B5-CB66-457E-8D39-B756F24C073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icture Books, Conversations, and Embedded Strategy Instruction for Predict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 as the MODELING phase of strategy instruction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y do good readers predict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, so what I hear you saying i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let go a little to facilitate students monitoring their strategy use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the tally sheet - Once you predict, you’re going to think about what you used to make that prediction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we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133720" y="602784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Now, I will model and ask you to notice and apply with </a:t>
            </a:r>
            <a:r>
              <a:rPr b="1" i="1" lang="en-US" sz="2400" spc="-1" strike="noStrike">
                <a:solidFill>
                  <a:srgbClr val="320000"/>
                </a:solidFill>
                <a:latin typeface="Arial"/>
              </a:rPr>
              <a:t>Once There Was a Bull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ice &amp; Apply (Activitie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(p. 86-see next slide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icky Note Questions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p. 88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view, Read, Question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p. 88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; genre features (p. 93)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…fairy tales (e.g., Cinderella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All ideas for your own lesson plan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2120" y="3510000"/>
          <a:ext cx="7543800" cy="266364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ways that you can cultivate conversations about books in your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Practice “having a conversation” (starting one and building on others ideas) with fiction and non-fi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Experience a shared reading that models how to make predictions using the Metacognitive Framework of define, explain, notice, and appl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 Oct. 5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roups): see wikispace for link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arse (1992) Fairy tale connections in Children’s Stori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inderella Around the World Telecollaborative Project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- part for homework and part in class - see handou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7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Read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rategy Book: Making Connections; Block &amp; Israel Article –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du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14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3: Strategy Script due (pretend it’s due for class on Oct. 12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 #1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ways that you can cultivate conversations about books in your classroo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Practice “having a conversation” (starting one and building on others ideas) with fiction and non-fi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Experience a shared reading that models how to make predictions using the Metacognitive Framework of define, explain, notice, and appl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roups for Cinderella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1: Jessica, Alyssa, Michael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2: Amy, Lindsey, Alys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3: Chelsea, Kelsey, Erik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4: Katie L, Sheila, Kriste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5: Erica, Meghan, Tabith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6: Amanda, Mandy, Katie S, Aime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Encouraging Talk About Books: Cultivating Conversat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What does a conversation look like?” (Chapter 5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alk about something that’s interesting (e.g., roller coasters!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olves full participation of people involve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cting and building on one another’s idea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eople look interested in other peoples idea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4 ways to scaffold discussion (Langer &amp; Close, 2001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apping understanding (What do you already know?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eeking Clarification (What questions do you have?)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iting Participating (What role do you want to play?)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Orchestrating Discussion (What structures can I provide?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How might you “orchestrate discussion” in your classroo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teaching structures can you use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Orchestrating Discuss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while gradually releasing responsibility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ead-aloud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model thinking/reacting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hared reading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nd reacting) without question and answer quiz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reciprocal teaching (predict, question, clarify, summarize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dependent reading &amp; respons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, reflect, respond, and rap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terature circles and textbook circ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ower of Literature Circles 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when done well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construct their understanding of the text through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a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ith peers and the teacher, as well as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har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nterests them about the books they read”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icky notes and active reading are usefu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ee chart on p. 50 for ideas, but not as prescriptive as your book suggests) – the point is to talk about the book, not the strategies!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ture circle roles guided by “topic/response area” rather than “strategy” might be a better techniqu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ultivating Convers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 how to START a conversa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tems: How come…Did you know…I don’t understand…I can’t believe…I love this part…This reminds me of…Can you imagine…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eaching how to BUILD on a conversa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tems: Are you sure…I thought that meant…Why do you think the author chose to…Can you show me…What do you that looks/feels like… Let’s get back on trac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Use the question prompts to guide you in STARTING a conversation and BUILDING on other’s thoughts, ideas, and reactions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ture Circle: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My Father’s Drag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xtbook Circle: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Gorilla Rescu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odeling how to apply a reading comprehension strateg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o, how can we work discussions about strategy use appropriately into our modeled, shared, and guided reading instruction in ways that help students gradually apply those strategies when they read independently?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0:50:16Z</dcterms:created>
  <dc:creator>Julie Coiro</dc:creator>
  <dc:description/>
  <dc:language>en-US</dc:language>
  <cp:lastModifiedBy>Julie Coiro</cp:lastModifiedBy>
  <dcterms:modified xsi:type="dcterms:W3CDTF">2010-09-30T03:11:50Z</dcterms:modified>
  <cp:revision>191</cp:revision>
  <dc:subject/>
  <dc:title>Metacognitive Strategy Instruction to Enhance Reading Comprehension</dc:title>
</cp:coreProperties>
</file>